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199313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790560" y="744120"/>
            <a:ext cx="520848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631-D46F-4657-A257-29AD87EF46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90560" y="744480"/>
            <a:ext cx="520848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otup time reduction method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Boot lo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Preset loops_per_jiff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Disable Consol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Device Driver Initialization</a:t>
            </a:r>
            <a:r>
              <a:rPr b="0" lang="ko-KR" sz="1200" spc="-1" strike="noStrike">
                <a:solidFill>
                  <a:srgbClr val="99ccff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99ccff"/>
                </a:solidFill>
                <a:latin typeface="굴림"/>
              </a:rPr>
              <a:t>Concurrent driver in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9ccff"/>
                </a:solidFill>
                <a:latin typeface="굴림"/>
              </a:rPr>
              <a:t>Lazy Memory Allo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oot Fil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Application Optimization Issu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uspend/resu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3CC9-89FD-49CD-9662-2F9B6C4A4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BE15-16EC-4517-B683-D8146A801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AF37-6FE6-4E5C-8269-67CEFAE16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265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963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712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265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963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4EFF-2187-4B11-B300-76A761D63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7120" y="122040"/>
            <a:ext cx="93744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DC77-13B1-4E65-BC01-82B1CFDBC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265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360" y="110484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712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265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96360" y="4066920"/>
            <a:ext cx="301824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BCAA-B7AB-4C58-9B1C-61930505D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E86D-C488-49E3-B971-5CFFFF88A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FA47-E9B6-4D1D-9958-C565B073A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7120" y="122040"/>
            <a:ext cx="937440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9CCE-BAB1-45BB-AAD8-61228D67E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E490-7726-42E4-9AA3-C115768D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0600" y="406692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6EB4-CCFA-4988-89DE-8F2980A26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0600" y="1104840"/>
            <a:ext cx="457452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7120" y="4066920"/>
            <a:ext cx="9374400" cy="270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795D-8ED7-464A-B342-296D8B1E6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5616720"/>
          <a:ext cx="151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16720"/>
                    <a:ext cx="151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1512720" y="6118200"/>
          <a:ext cx="935280" cy="86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12720" y="6118200"/>
                    <a:ext cx="9352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6"/>
          <a:srcRect l="0" t="12566" r="0" b="0"/>
          <a:stretch/>
        </p:blipFill>
        <p:spPr>
          <a:xfrm>
            <a:off x="0" y="-3240"/>
            <a:ext cx="10080720" cy="1033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7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50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550"/>
              </a:spcBef>
              <a:buClr>
                <a:srgbClr val="000000"/>
              </a:buClr>
              <a:buFont typeface="HY헤드라인M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3" marL="1728720" indent="-247680">
              <a:spcBef>
                <a:spcPts val="550"/>
              </a:spcBef>
              <a:buClr>
                <a:srgbClr val="000000"/>
              </a:buClr>
              <a:buFont typeface="굴림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4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5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6" marL="2222640" indent="-247680">
              <a:spcBef>
                <a:spcPts val="550"/>
              </a:spcBef>
              <a:buClr>
                <a:srgbClr val="000000"/>
              </a:buClr>
              <a:buFont typeface="굴림"/>
              <a:buChar char="»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4300200" y="6872040"/>
            <a:ext cx="2351160" cy="206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587F53E-7D24-4FD1-B447-47291970D4FB}" type="slidenum">
              <a: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&lt;number&gt;</a:t>
            </a:fld>
            <a:r>
              <a:rPr b="0" lang="en-US" sz="13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9215280" y="6775560"/>
            <a:ext cx="854280" cy="403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144360" y="6769080"/>
            <a:ext cx="180036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236320"/>
            <a:ext cx="8569440" cy="1543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5400720"/>
          <a:ext cx="15127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00720"/>
                    <a:ext cx="15127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438200" y="5977080"/>
          <a:ext cx="1225800" cy="113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38200" y="5977080"/>
                    <a:ext cx="122580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107640" y="96840"/>
            <a:ext cx="85392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44360" y="6696000"/>
            <a:ext cx="1800360" cy="37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HY헤드라인M"/>
              </a:rPr>
              <a:t>Click to edit the outline text format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lvl="1" marL="493560" indent="0" algn="ctr">
              <a:spcBef>
                <a:spcPts val="4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987480" algn="ctr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3" marL="1481040" algn="ctr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4" marL="1974960" algn="ctr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5" marL="1974960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6" marL="1974960">
              <a:spcBef>
                <a:spcPts val="425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-106.ibm.com/developerworks/linux/library/l-boot.html?ca=dgr-lnxw04BootFaster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236320"/>
            <a:ext cx="8569440" cy="1543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Y견고딕"/>
              </a:rPr>
              <a:t>Linux Bootup Time Reduction for Digital Still Camera</a:t>
            </a:r>
            <a:endParaRPr b="0" lang="en-US" sz="3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7360" y="5146200"/>
            <a:ext cx="5543640" cy="1251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Chan Ju, Park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SW Laboratories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9999"/>
                </a:solidFill>
                <a:latin typeface="HY헤드라인M"/>
              </a:rPr>
              <a:t>Samsung Electronics</a:t>
            </a:r>
            <a:endParaRPr b="0" lang="en-US" sz="2600" spc="-1" strike="noStrike">
              <a:solidFill>
                <a:srgbClr val="333399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04720" y="1079640"/>
          <a:ext cx="9144000" cy="5473440"/>
        </p:xfrm>
        <a:graphic>
          <a:graphicData uri="http://schemas.openxmlformats.org/drawingml/2006/table">
            <a:tbl>
              <a:tblPr/>
              <a:tblGrid>
                <a:gridCol w="2951280"/>
                <a:gridCol w="6192720"/>
              </a:tblGrid>
              <a:tr h="586080">
                <a:tc rowSpan="2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1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 Lo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ystem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mage copy to RA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 rowSpan="3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2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 kern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 device driv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Mount root file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rowSpan="4"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buSzPct val="257180"/>
                        <a:buBlip>
                          <a:blip r:embed="rId3"/>
                        </a:buBlip>
                        <a:tabLst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Application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tart RC scrip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cre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application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8640" rIns="98640" tIns="49320" bIns="49320" anchor="t">
                      <a:noAutofit/>
                    </a:bodyPr>
                    <a:p>
                      <a:pPr marL="369720" indent="-36972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view Mode (ready-to-sho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8640" marR="9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DSC Booting Procedure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bootloader 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set ~ OneNAND boot loader(xloader) execut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xloader copied to SDRAM &amp; execute at SD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xloader copy u-boot to 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DSC motor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66ff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66ff"/>
                </a:solidFill>
                <a:latin typeface="HY헤드라인M"/>
              </a:rPr>
              <a:t>u-boot execute &amp; copy kernel Image to SD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kernel init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Kernel Init code execut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 kernel subsyste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 static modu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unt cramf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xecute init scrip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application init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xecute basic DSC application modu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etup preview mode sequenc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isplay preview &amp; OSD Imag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Boot time measuremen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Using H/W device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xpensive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arget code modification is need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xac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Using serial output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RM or MIPS has no counter register (x86:TSC reg.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Using host serial in cross development environment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hea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No or few modification for the target cod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an collect much data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omparatively small differenc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Y견고딕"/>
              </a:rPr>
              <a:t>Initial bootup time (before optimization)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9640" y="2232000"/>
          <a:ext cx="3600720" cy="4464000"/>
        </p:xfrm>
        <a:graphic>
          <a:graphicData uri="http://schemas.openxmlformats.org/drawingml/2006/table">
            <a:tbl>
              <a:tblPr/>
              <a:tblGrid>
                <a:gridCol w="2513160"/>
                <a:gridCol w="1087560"/>
              </a:tblGrid>
              <a:tr h="10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2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(m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8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69720" indent="-36972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6.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03280" y="1008000"/>
            <a:ext cx="8582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499"/>
              </a:spcBef>
              <a:buSzPct val="256981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Just after kernel and D/D por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90000"/>
              </a:lnSpc>
              <a:spcBef>
                <a:spcPts val="499"/>
              </a:spcBef>
              <a:buSzPct val="256981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NAND flash, zIm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3280" y="2232000"/>
          <a:ext cx="5545080" cy="4464000"/>
        </p:xfrm>
        <a:graphic>
          <a:graphicData uri="http://schemas.openxmlformats.org/drawingml/2006/table">
            <a:tbl>
              <a:tblPr/>
              <a:tblGrid>
                <a:gridCol w="5545080"/>
              </a:tblGrid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ystem ini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(bootloade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mage cop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zImage decompress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linux kernel st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linux kernel initiali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creation &amp; initial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view st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견고딕"/>
              </a:rPr>
              <a:t>Applied methods</a:t>
            </a:r>
            <a:endParaRPr b="0" lang="en-US" sz="37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Normal bootup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bootloader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eNAND booting (more faster than Nand flash, 2 times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Kernel / device driver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e Preset LJP (Loop Per Jiffies)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ule init optimiz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e non-compressed kernel image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ize optimization ( kernel, library 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kernel messag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File syste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1117440"/>
            <a:ext cx="885672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t using u-boot except development perio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itializes a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loads the  Kernel image into RA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inimal initializ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emory, clock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devic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AND Flash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OneNAND Flash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hen power on, </a:t>
            </a:r>
            <a:r>
              <a:rPr b="0" lang="ko-KR" sz="17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xloader</a:t>
            </a: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1KB bootloader of OneNAND flash) </a:t>
            </a:r>
            <a:br>
              <a:rPr sz="1700"/>
            </a:b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s executed automatically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ardly influence to bootup time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re fast than nand flash (2 times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Boot loader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Y견고딕"/>
              </a:rPr>
              <a:t>Flash Partition Usage (OneNAND flash)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9320"/>
            <a:ext cx="7848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303640" y="2016000"/>
            <a:ext cx="2734920" cy="5763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bootloader paramt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2303640" y="2592360"/>
            <a:ext cx="2734920" cy="719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Linux Kernel Im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2303640" y="3311640"/>
            <a:ext cx="2734920" cy="936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CRAMF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(Code &amp; Library file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688000" y="1582560"/>
            <a:ext cx="2735280" cy="28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boot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38560" y="1727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303640" y="1440000"/>
            <a:ext cx="2734920" cy="576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xload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303640" y="4248000"/>
            <a:ext cx="2734920" cy="15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bust F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(System Config Files &amp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User Data File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664000" y="6335640"/>
            <a:ext cx="17269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64MB OneNA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870200" y="129528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870200" y="187164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128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1870200" y="244800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56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870200" y="316692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M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870200" y="4103640"/>
            <a:ext cx="2919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20M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688000" y="215892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param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038560" y="230184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5688000" y="2808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kernel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038560" y="29494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688000" y="3600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ot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038560" y="3743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688000" y="4824360"/>
            <a:ext cx="27352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obust FS’ part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038560" y="4967280"/>
            <a:ext cx="649440" cy="0"/>
          </a:xfrm>
          <a:prstGeom prst="line">
            <a:avLst/>
          </a:prstGeom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303640" y="5759280"/>
            <a:ext cx="2734920" cy="5050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Reserved Are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Kernel</a:t>
            </a: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 &amp; D/D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419040" indent="-419040">
              <a:spcBef>
                <a:spcPts val="499"/>
              </a:spcBef>
              <a:buSzPct val="256981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Using uncompressed Imag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ave decompressing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Preset loops_per_jiffy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Find out loops_per_jiffy values, and hard co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Disable Console Output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Just add ‘quiet’ option to command line when compil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Remove root file system check routine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Concurrent driver init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SC Motor has long initialization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ification zoom motor init cod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311120" indent="-32364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More than 1sec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311120" indent="-32364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Motor init can be parallelized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nitialize at start of the bootloade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419040" indent="-419040">
              <a:spcBef>
                <a:spcPts val="499"/>
              </a:spcBef>
              <a:buSzPct val="256981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Remove the static device driver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t makes smaller kernel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ave the module init time at bootu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55720" indent="-362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The modules which is not need at bootup time can be loaded after bootup.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3384720"/>
            <a:ext cx="7954920" cy="244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ing memory allocation time for Image processing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boot-time allocation method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doesn’t know about area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an save mem alloc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an using the big area DMA memory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ax : 12MB contiguous memory required (capture mode)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60360" y="1008000"/>
            <a:ext cx="928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ssues  of Root File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copy time at bootloader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decompressing time when kernel initialize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mall size imag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Using busy box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Y헤드라인M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RAMF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ad only nand file system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odifiable directory has to mount another R/W file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We use robust file system for OneNAN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t include bad block management algorithm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artial uncompressed cramf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decompressing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t tested at this ti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2" marL="1235160" indent="-2476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Root File system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1008000"/>
            <a:ext cx="9504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ntroduction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SC Bootup Procedur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up time reduction methods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ot File system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urther works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100000"/>
              </a:lnSpc>
              <a:spcBef>
                <a:spcPts val="550"/>
              </a:spcBef>
              <a:buSzPct val="257180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57120" y="122400"/>
            <a:ext cx="9374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  <a:ea typeface="HY견고딕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HY견고딕"/>
              </a:rPr>
              <a:t>Application init &amp; loading</a:t>
            </a:r>
            <a:endParaRPr b="0" lang="en-US" sz="31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Loading OSD data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When system bootup, load only need dat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DSC application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f preview mode, other process creation init &amp; loading can dela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Memory allocation, copy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Time spend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SC processing much Image dat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torage device Init &amp; mount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d/mmc card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nitialization can be delayed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ackground processing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ard Device Init (device init, mount, etc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torage information read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nit DCF/Exif S/W modul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7120" y="1104840"/>
          <a:ext cx="6627960" cy="5670720"/>
        </p:xfrm>
        <a:graphic>
          <a:graphicData uri="http://schemas.openxmlformats.org/drawingml/2006/table">
            <a:tbl>
              <a:tblPr/>
              <a:tblGrid>
                <a:gridCol w="1636920"/>
                <a:gridCol w="2290680"/>
                <a:gridCol w="2700360"/>
              </a:tblGrid>
              <a:tr h="7113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Sta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NAND fla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0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Loa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Boot load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43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 Image copy to RA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7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Kernel basic setu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8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Applic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mount file syst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Application (preview) star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6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Total (ms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27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128000" y="1104840"/>
          <a:ext cx="2603520" cy="5670360"/>
        </p:xfrm>
        <a:graphic>
          <a:graphicData uri="http://schemas.openxmlformats.org/drawingml/2006/table">
            <a:tbl>
              <a:tblPr/>
              <a:tblGrid>
                <a:gridCol w="2603520"/>
              </a:tblGrid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OneNAND flas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2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HY헤드라인M"/>
                          <a:ea typeface="HY헤드라인M"/>
                        </a:rPr>
                        <a:t>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89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6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2500" spc="-1" strike="noStrike">
                          <a:solidFill>
                            <a:srgbClr val="ff3300"/>
                          </a:solidFill>
                          <a:latin typeface="HY헤드라인M"/>
                          <a:ea typeface="HY헤드라인M"/>
                        </a:rPr>
                        <a:t>20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8" name=""/>
          <p:cNvSpPr/>
          <p:nvPr/>
        </p:nvSpPr>
        <p:spPr>
          <a:xfrm>
            <a:off x="4260960" y="205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260960" y="2206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260960" y="22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260960" y="2654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152360"/>
          <a:ext cx="9361440" cy="5400720"/>
        </p:xfrm>
        <a:graphic>
          <a:graphicData uri="http://schemas.openxmlformats.org/drawingml/2006/table">
            <a:tbl>
              <a:tblPr/>
              <a:tblGrid>
                <a:gridCol w="1709640"/>
                <a:gridCol w="1434960"/>
                <a:gridCol w="4865760"/>
                <a:gridCol w="1351080"/>
              </a:tblGrid>
              <a:tr h="34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ing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Bootlo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Initialize CPU &amp; RAM &amp; Ubo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Copy kernel image (from flash to ra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ernel I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setup_arch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rap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kmem_cache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mem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vfs_caches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age_cache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rest_init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o_basic_setup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prepare_namespac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console 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ready to use file syste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DSC process (preview mod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Times New Roman"/>
                        </a:rPr>
                        <a:t>1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HY견고딕"/>
              </a:rPr>
              <a:t>Suspend / Resum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uspend-to-ram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During system suspend, the ram change to self-refresh mod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issue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cost of suspend/resume to 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Power consump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elf refresh mode of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power off all devices except but 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Boot flags register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If it locates at DSP, consume more powe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Using power management unit  </a:t>
            </a:r>
            <a:r>
              <a:rPr b="0" lang="en-US" sz="1700" spc="-1" strike="noStrike">
                <a:solidFill>
                  <a:srgbClr val="0066ff"/>
                </a:solidFill>
                <a:latin typeface="HY헤드라인M"/>
              </a:rPr>
              <a:t>(PMU)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Other information will be stored at global variables in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CPU register, stack, I/O register valu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System suspend procedur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"/>
          <p:cNvSpPr/>
          <p:nvPr/>
        </p:nvSpPr>
        <p:spPr>
          <a:xfrm>
            <a:off x="3095640" y="21556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PU Register Save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095640" y="29512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IO Register Contents save to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3095640" y="374328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et to self refresh mode of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9" name=""/>
          <p:cNvCxnSpPr>
            <a:stCxn id="178" idx="2"/>
          </p:cNvCxnSpPr>
          <p:nvPr/>
        </p:nvCxnSpPr>
        <p:spPr>
          <a:xfrm rot="5400000">
            <a:off x="4716360" y="4388400"/>
            <a:ext cx="286560" cy="2520"/>
          </a:xfrm>
          <a:prstGeom prst="bentConnector3">
            <a:avLst>
              <a:gd name="adj1" fmla="val 49937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0" name=""/>
          <p:cNvCxnSpPr>
            <a:stCxn id="177" idx="2"/>
            <a:endCxn id="178" idx="0"/>
          </p:cNvCxnSpPr>
          <p:nvPr/>
        </p:nvCxnSpPr>
        <p:spPr>
          <a:xfrm flipV="1" rot="10800000">
            <a:off x="4860360" y="345420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1" name=""/>
          <p:cNvCxnSpPr>
            <a:stCxn id="176" idx="2"/>
            <a:endCxn id="177" idx="0"/>
          </p:cNvCxnSpPr>
          <p:nvPr/>
        </p:nvCxnSpPr>
        <p:spPr>
          <a:xfrm flipV="1" rot="10800000">
            <a:off x="4860360" y="2658600"/>
            <a:ext cx="1080" cy="293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2" name=""/>
          <p:cNvSpPr/>
          <p:nvPr/>
        </p:nvSpPr>
        <p:spPr>
          <a:xfrm>
            <a:off x="3095640" y="1436760"/>
            <a:ext cx="352908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ff Button Push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3" name=""/>
          <p:cNvCxnSpPr>
            <a:stCxn id="182" idx="2"/>
            <a:endCxn id="176" idx="0"/>
          </p:cNvCxnSpPr>
          <p:nvPr/>
        </p:nvCxnSpPr>
        <p:spPr>
          <a:xfrm flipV="1" rot="10800000">
            <a:off x="4860360" y="1939680"/>
            <a:ext cx="1080" cy="216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4" name=""/>
          <p:cNvSpPr/>
          <p:nvPr/>
        </p:nvSpPr>
        <p:spPr>
          <a:xfrm>
            <a:off x="3095640" y="4535640"/>
            <a:ext cx="352908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ave flag of fast boot to PMU Regis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095640" y="5256360"/>
            <a:ext cx="3529080" cy="7920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ff CPU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all devices except PMU &amp; 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 flipV="1" rot="10800000">
            <a:off x="4860360" y="5038200"/>
            <a:ext cx="1080" cy="218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System resume procedur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08764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et vect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88288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SC H/W in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675240"/>
            <a:ext cx="2665440" cy="50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Disable Interrup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366920" y="4464000"/>
            <a:ext cx="2519280" cy="1008000"/>
          </a:xfrm>
          <a:prstGeom prst="diamond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heck if suspend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83236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lock, Memory In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2642040" y="5400720"/>
            <a:ext cx="8982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55308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 loading &amp; ju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902200" y="2592360"/>
            <a:ext cx="26672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Restore HW register valu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902200" y="6121440"/>
            <a:ext cx="26672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Execute DSC ap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902200" y="3382920"/>
            <a:ext cx="2667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HY헤드라인M"/>
                <a:ea typeface="HY헤드라인M"/>
              </a:rPr>
              <a:t>Set interrupt for resu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902200" y="4176720"/>
            <a:ext cx="2667240" cy="649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Restore variables &amp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PU register valu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902200" y="5114880"/>
            <a:ext cx="2667240" cy="64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DSC HW / App init &amp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Check DSC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0" name=""/>
          <p:cNvCxnSpPr>
            <a:stCxn id="191" idx="3"/>
            <a:endCxn id="195" idx="1"/>
          </p:cNvCxnSpPr>
          <p:nvPr/>
        </p:nvCxnSpPr>
        <p:spPr>
          <a:xfrm flipV="1">
            <a:off x="3886200" y="2844360"/>
            <a:ext cx="2016720" cy="2124720"/>
          </a:xfrm>
          <a:prstGeom prst="bentConnector3">
            <a:avLst>
              <a:gd name="adj1" fmla="val 49991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01" name=""/>
          <p:cNvSpPr/>
          <p:nvPr/>
        </p:nvSpPr>
        <p:spPr>
          <a:xfrm>
            <a:off x="3582000" y="4510080"/>
            <a:ext cx="12322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HY헤드라인M"/>
                <a:ea typeface="HY헤드라인M"/>
              </a:rPr>
              <a:t>suspend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2" name=""/>
          <p:cNvCxnSpPr>
            <a:stCxn id="195" idx="2"/>
            <a:endCxn id="197" idx="0"/>
          </p:cNvCxnSpPr>
          <p:nvPr/>
        </p:nvCxnSpPr>
        <p:spPr>
          <a:xfrm flipV="1" rot="10800000">
            <a:off x="7235280" y="3095280"/>
            <a:ext cx="1080" cy="288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3" name=""/>
          <p:cNvCxnSpPr>
            <a:stCxn id="197" idx="2"/>
            <a:endCxn id="198" idx="0"/>
          </p:cNvCxnSpPr>
          <p:nvPr/>
        </p:nvCxnSpPr>
        <p:spPr>
          <a:xfrm flipV="1" rot="10800000">
            <a:off x="7235280" y="388692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4" name=""/>
          <p:cNvCxnSpPr>
            <a:stCxn id="198" idx="2"/>
            <a:endCxn id="199" idx="0"/>
          </p:cNvCxnSpPr>
          <p:nvPr/>
        </p:nvCxnSpPr>
        <p:spPr>
          <a:xfrm flipV="1" rot="10800000">
            <a:off x="7235280" y="482580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5" name=""/>
          <p:cNvCxnSpPr>
            <a:stCxn id="199" idx="2"/>
            <a:endCxn id="196" idx="0"/>
          </p:cNvCxnSpPr>
          <p:nvPr/>
        </p:nvCxnSpPr>
        <p:spPr>
          <a:xfrm flipV="1" rot="10800000">
            <a:off x="7235280" y="5760720"/>
            <a:ext cx="1080" cy="36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06" name=""/>
          <p:cNvSpPr/>
          <p:nvPr/>
        </p:nvSpPr>
        <p:spPr>
          <a:xfrm>
            <a:off x="6127920" y="936720"/>
            <a:ext cx="22363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esume boot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46160" y="2448000"/>
            <a:ext cx="934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ot load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8" name=""/>
          <p:cNvCxnSpPr>
            <a:stCxn id="192" idx="2"/>
            <a:endCxn id="194" idx="0"/>
          </p:cNvCxnSpPr>
          <p:nvPr/>
        </p:nvCxnSpPr>
        <p:spPr>
          <a:xfrm flipV="1" rot="10800000">
            <a:off x="2628360" y="6335280"/>
            <a:ext cx="1080" cy="218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9" name=""/>
          <p:cNvCxnSpPr>
            <a:stCxn id="191" idx="2"/>
            <a:endCxn id="192" idx="0"/>
          </p:cNvCxnSpPr>
          <p:nvPr/>
        </p:nvCxnSpPr>
        <p:spPr>
          <a:xfrm flipH="1" rot="16200000">
            <a:off x="2446920" y="5650920"/>
            <a:ext cx="361080" cy="2520"/>
          </a:xfrm>
          <a:prstGeom prst="bentConnector3">
            <a:avLst>
              <a:gd name="adj1" fmla="val 4970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0" name=""/>
          <p:cNvCxnSpPr>
            <a:stCxn id="190" idx="2"/>
            <a:endCxn id="191" idx="0"/>
          </p:cNvCxnSpPr>
          <p:nvPr/>
        </p:nvCxnSpPr>
        <p:spPr>
          <a:xfrm rot="5400000">
            <a:off x="2484360" y="4320000"/>
            <a:ext cx="286560" cy="2520"/>
          </a:xfrm>
          <a:prstGeom prst="bentConnector3">
            <a:avLst>
              <a:gd name="adj1" fmla="val 49937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1" name=""/>
          <p:cNvCxnSpPr>
            <a:stCxn id="189" idx="2"/>
            <a:endCxn id="190" idx="0"/>
          </p:cNvCxnSpPr>
          <p:nvPr/>
        </p:nvCxnSpPr>
        <p:spPr>
          <a:xfrm flipV="1" rot="10800000">
            <a:off x="2628360" y="3385440"/>
            <a:ext cx="1080" cy="289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2" name=""/>
          <p:cNvCxnSpPr>
            <a:stCxn id="188" idx="2"/>
            <a:endCxn id="189" idx="0"/>
          </p:cNvCxnSpPr>
          <p:nvPr/>
        </p:nvCxnSpPr>
        <p:spPr>
          <a:xfrm flipV="1" rot="10800000">
            <a:off x="2628360" y="2590560"/>
            <a:ext cx="1080" cy="292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3" name=""/>
          <p:cNvSpPr/>
          <p:nvPr/>
        </p:nvSpPr>
        <p:spPr>
          <a:xfrm>
            <a:off x="5897520" y="1440000"/>
            <a:ext cx="2665440" cy="503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HY헤드라인M"/>
                <a:ea typeface="HY헤드라인M"/>
              </a:rPr>
              <a:t>PMU 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936720"/>
            <a:ext cx="21844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rmal boot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1368360"/>
            <a:ext cx="266544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Power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6" name=""/>
          <p:cNvCxnSpPr>
            <a:stCxn id="215" idx="2"/>
            <a:endCxn id="188" idx="0"/>
          </p:cNvCxnSpPr>
          <p:nvPr/>
        </p:nvCxnSpPr>
        <p:spPr>
          <a:xfrm flipV="1" rot="10800000">
            <a:off x="2628360" y="1871280"/>
            <a:ext cx="1080" cy="2167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7" name=""/>
          <p:cNvCxnSpPr>
            <a:stCxn id="213" idx="1"/>
            <a:endCxn id="188" idx="3"/>
          </p:cNvCxnSpPr>
          <p:nvPr/>
        </p:nvCxnSpPr>
        <p:spPr>
          <a:xfrm flipV="1" rot="10800000">
            <a:off x="3960000" y="1691280"/>
            <a:ext cx="1937520" cy="648360"/>
          </a:xfrm>
          <a:prstGeom prst="bentConnector3">
            <a:avLst>
              <a:gd name="adj1" fmla="val 49990"/>
            </a:avLst>
          </a:prstGeom>
          <a:ln w="255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8" name=""/>
          <p:cNvSpPr/>
          <p:nvPr/>
        </p:nvSpPr>
        <p:spPr>
          <a:xfrm>
            <a:off x="5604840" y="6769080"/>
            <a:ext cx="32954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* PMU: Power Management Uni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sults of suspend/resume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rom reset to preview stat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bout </a:t>
            </a:r>
            <a:r>
              <a:rPr b="0" lang="en-US" sz="1900" spc="-1" strike="noStrike">
                <a:solidFill>
                  <a:srgbClr val="0066ff"/>
                </a:solidFill>
                <a:latin typeface="HY헤드라인M"/>
              </a:rPr>
              <a:t>800 m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or power saving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It is possible to full shutdown when user does not operat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uring settled ti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Excepted method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Kernel XIP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xecuting code directly from flash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Reduce boot time and save cost, et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urrent platform has no proper devices (e.g Nor Flash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Parallelizing of services execution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ying techniques of parallelizing RC-scripts at system / user space start up 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ffectiveness depends on the number of ser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mbedded system such as DSC has not many ser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Further work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prelink (library execution optimization)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ootcach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Suspend-to-disk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Boot process analyzing with tools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Ex) Bootchar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optimized block copy in OneNAND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OneNAND cached cop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ynchronous mod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Conclusion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ere exist many methods for reducing the Linux Bootup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The Reduction methods are variant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from the DSC H/W or scenario,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o we have to choice the proper policy.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Linux Bootup methods for 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Many reduction methods can be adopted but,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choice &amp; evaluation is need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Embedded Linux can satisfy the requirements of DSC Bootup time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term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9000"/>
          </a:bodyPr>
          <a:p>
            <a:pPr marL="365760" indent="-36576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igital still camera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Bootup ti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time from platform power on to preview stat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Preview stat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 DSC state for ready-to-sh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4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Auto focus, auto white balance, auto expos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5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 to dra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6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RF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Root file system for Linux Kernel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7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Robust F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793440" indent="-30492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Linux file system for OneNAND flash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5760" indent="-365760">
              <a:spcBef>
                <a:spcPts val="550"/>
              </a:spcBef>
              <a:buSzPct val="257180"/>
              <a:buBlip>
                <a:blip r:embed="rId8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Normal boot, suspend/resume boot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Reference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Linux on a Digital Camera, Porting 2.4 Linux kernel to an existing digital camera,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Alain Volmat, Ricoh Company Ltd.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Methods to Improve Bootup Time in Linux</a:t>
            </a:r>
            <a:br>
              <a:rPr sz="2200"/>
            </a:b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Tim R. Bird, Sony Electronics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IBM developer white paper, “Boot linux faster, parallelize Linux system services to improve boot speed”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|</a:t>
            </a:r>
            <a:br>
              <a:rPr sz="2200"/>
            </a:br>
            <a:r>
              <a:rPr b="0" lang="en-US" sz="2200" spc="-1" strike="noStrike" u="sng">
                <a:solidFill>
                  <a:srgbClr val="009999"/>
                </a:solidFill>
                <a:uFillTx/>
                <a:latin typeface="HY헤드라인M"/>
                <a:hlinkClick r:id="rId4"/>
              </a:rPr>
              <a:t>http://www-106.ibm.com/developerworks/linux/library/l-boot.html?ca=dgr-lnxw04BootFaster</a:t>
            </a: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introduction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649"/>
              </a:spcBef>
              <a:buSzPct val="217635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헤드라인M"/>
              </a:rPr>
              <a:t>About this project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In samsung, Embedded Linux ported for many CE devices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76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TV, DMB, Mobile phone, DVR, other set top boxes, et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But not DSC area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DSC use many RTOSes ( vxworks, pSos, uITRON, </a:t>
            </a: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Nucleus, etc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524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Project stated for evaluation of embedded linux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649"/>
              </a:spcBef>
              <a:buSzPct val="21763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헤드라인M"/>
              </a:rPr>
              <a:t>Why Linux in DSC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Technical Convergence in CE Devices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Plentiful of Applic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Open S/W Platform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Cost?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Y헤드라인M"/>
              </a:rPr>
              <a:t>Embedded Linux on DSC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There exist only few cases which was published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.g.  Ricoh Company made prototype Linux DS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649"/>
              </a:spcBef>
              <a:buSzPct val="21763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Y헤드라인M"/>
              </a:rPr>
              <a:t>DSC &amp; bootup time</a:t>
            </a:r>
            <a:endParaRPr b="0" lang="en-US" sz="26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Long bootup time diminish customer satisfac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Bootup Time is more important in DS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Linux Bootup Tim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PC : 1 min or mor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Embedded System : 2~10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Depends on system, Applications, Policy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Image loading, H/W peripherals, application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3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applied Bootup methods for DSC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bootloader ~ preview application runn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Y헤드라인M"/>
              </a:rPr>
              <a:t>using suspend-to-ram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lnSpc>
                <a:spcPct val="90000"/>
              </a:lnSpc>
              <a:spcBef>
                <a:spcPts val="700"/>
              </a:spcBef>
              <a:buSzPct val="201995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Normal boot : 2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HY헤드라인M"/>
              </a:rPr>
              <a:t>Suspend/resume : 1 sec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Test Environment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" y="1223640"/>
            <a:ext cx="5546880" cy="4878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24"/>
              </a:spcBef>
              <a:buSzPct val="269327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HY헤드라인M"/>
              </a:rPr>
              <a:t>Target Platform</a:t>
            </a:r>
            <a:endParaRPr b="0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Cor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ARM926EJS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Image processor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Samsung S5C7380x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ystem clock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216Mhz Fclock,108Mhz Hclock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emory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4MB DDR, 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4MB One-NAND flash ( async mode )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374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25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SC Module &amp;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6M CCD(CMOS) censor, AF/Zoom/Shutter/Iris motor, Digital LCD, JPEG/MPEG codec, etc.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374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HY헤드라인M"/>
              </a:rPr>
              <a:t>USB, ADC, SD/MMC Card, etc</a:t>
            </a:r>
            <a:endParaRPr b="0" lang="en-US" sz="15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1" name=""/>
          <p:cNvSpPr/>
          <p:nvPr/>
        </p:nvSpPr>
        <p:spPr>
          <a:xfrm>
            <a:off x="5616720" y="3529080"/>
            <a:ext cx="446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4.20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Non-compressed Image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ize : about 1MB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69720" indent="-369720">
              <a:lnSpc>
                <a:spcPct val="90000"/>
              </a:lnSpc>
              <a:spcBef>
                <a:spcPts val="550"/>
              </a:spcBef>
              <a:buSzPct val="257180"/>
              <a:buBlip>
                <a:blip r:embed="rId3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ot fs : Cramf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Robust FS for Flash filesystem in OneNAND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545080" y="1152360"/>
            <a:ext cx="345600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견고딕"/>
              </a:rPr>
              <a:t>Bootup time reduction is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550"/>
              </a:spcBef>
              <a:buSzPct val="257180"/>
              <a:buBlip>
                <a:blip r:embed="rId1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Every little makes a mickle 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0">
              <a:spcBef>
                <a:spcPts val="55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marL="369720" indent="-369720">
              <a:spcBef>
                <a:spcPts val="550"/>
              </a:spcBef>
              <a:buSzPct val="257180"/>
              <a:buBlip>
                <a:blip r:embed="rId2"/>
              </a:buBlip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HY헤드라인M"/>
              </a:rPr>
              <a:t>All kinds of techniques are needed</a:t>
            </a:r>
            <a:endParaRPr b="0" lang="en-US" sz="22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Firmware (boot loader)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inimal system init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shortening image copy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Boot devices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Hardware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e time System initialization 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H/W probing tim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Only initialize the device which was used when bootup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E.g. Dsc motors, storage (HDD, Card, Flash), DSP,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7120" y="122040"/>
            <a:ext cx="9374400" cy="755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104840"/>
            <a:ext cx="9374400" cy="567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Image small sizing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kernel, root fs (libraries), D/D Modules, etc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Depends on the kernel configur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Device driver initial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move H/W probing &amp; Initializ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Using hard co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odule loading policy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3" marL="1728720" indent="-247680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Using static module if neede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3" marL="1728720" indent="-247680">
              <a:spcBef>
                <a:spcPts val="425"/>
              </a:spcBef>
              <a:buClr>
                <a:srgbClr val="000000"/>
              </a:buClr>
              <a:buFont typeface="굴림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굴림"/>
              </a:rPr>
              <a:t>Other modules can load when needed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3" marL="172872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application optimization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Resource loading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Memory allocation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-247680">
              <a:spcBef>
                <a:spcPts val="425"/>
              </a:spcBef>
              <a:buClr>
                <a:srgbClr val="000000"/>
              </a:buClr>
              <a:buFont typeface="HY헤드라인M"/>
              <a:buChar char="•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App setup procedure</a:t>
            </a: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2" marL="1235160" indent="0">
              <a:spcBef>
                <a:spcPts val="42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700" spc="-1" strike="noStrike">
              <a:solidFill>
                <a:srgbClr val="000000"/>
              </a:solidFill>
              <a:latin typeface="HY헤드라인M"/>
            </a:endParaRPr>
          </a:p>
          <a:p>
            <a:pPr lvl="1" marL="801720" indent="-308160">
              <a:spcBef>
                <a:spcPts val="476"/>
              </a:spcBef>
              <a:buClr>
                <a:srgbClr val="000000"/>
              </a:buClr>
              <a:buFont typeface="HY헤드라인M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HY헤드라인M"/>
              </a:rPr>
              <a:t>Suspend/resume</a:t>
            </a:r>
            <a:endParaRPr b="0" lang="en-US" sz="19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6:30:26Z</dcterms:created>
  <dc:creator>정문숙</dc:creator>
  <dc:description/>
  <dc:language>en-US</dc:language>
  <cp:lastModifiedBy>bestworld</cp:lastModifiedBy>
  <dcterms:modified xsi:type="dcterms:W3CDTF">2006-08-16T08:39:24Z</dcterms:modified>
  <cp:revision>401</cp:revision>
  <dc:subject/>
  <dc:title>슬라이드 1</dc:title>
</cp:coreProperties>
</file>